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3F8B-B3FC-4F19-A825-CA8EA9BC3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89A6-06CA-4F67-9D4D-519EEFE77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D996-40DB-4829-B391-AC509E386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F39-57A7-45ED-9A9C-6AE86D61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712-FFAD-4853-B5EB-E87AC6E2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694-70DA-4F7C-8628-19F895E5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F53-8808-4C3C-9FF3-A7D120B7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0CCF7-A645-4BA2-8772-10463C62BC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46A1E-5DE0-4C1B-BA73-BAF0FBBF0B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EE13F-28FB-4CA8-B489-25C42DA12D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6EC57-7E32-41EF-BB4D-7F0CF7B9B8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2256F-213B-4BEE-8BCE-986D790E2D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D8B0B-BBE9-42FD-ABFD-F3CFB3491F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CBFC8-3454-4985-82BA-AFD1AF9A7A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63B-050C-462A-9B61-ED4A606D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023DF-7C80-4D00-991F-0F5738C0D3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A788F-A741-4619-9711-037664ADAC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C36D2-21D7-4BA7-AA4E-88D6F8AEC2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0554B-4F85-4A22-A17C-AF8CDF3E3C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4F03A-86AD-462D-9A6F-2CDF92BA5D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97B-4724-462B-B32F-9AF2578A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355-A1C5-43BB-9802-4DF30379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406-631F-4A43-BEEC-85240F30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FD0-DA84-40E7-8A8B-3F2D670E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7E2-707E-4F19-AF23-DEB0515C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ED1-4595-4AC4-A377-4ED1EBC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9F3-DF02-48F0-AF58-D57FBB45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3E9-D465-45F0-A370-E7686EC2E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7758000" y="115920"/>
            <a:ext cx="1300320" cy="590400"/>
          </a:xfrm>
          <a:prstGeom prst="rect">
            <a:avLst/>
          </a:prstGeom>
          <a:ln w="0">
            <a:noFill/>
          </a:ln>
        </p:spPr>
      </p:pic>
      <p:pic>
        <p:nvPicPr>
          <p:cNvPr id="42" name="image.pdf" descr="image.pdf"/>
          <p:cNvPicPr/>
          <p:nvPr/>
        </p:nvPicPr>
        <p:blipFill>
          <a:blip r:embed="rId4"/>
          <a:stretch/>
        </p:blipFill>
        <p:spPr>
          <a:xfrm>
            <a:off x="0" y="6224760"/>
            <a:ext cx="9145440" cy="15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9B3E-9FAD-4B60-A153-F0ED2BF356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六节    金融期货的投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42940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投机的定义与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是指借助对金融期货市场价格变动趋势的预测，低买高卖而获利的交易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机与赌博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险来源不同；对社会经济的作用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机与投资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者是风险偏好者，投资者是风险厌恶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圆角矩形 3"/>
          <p:cNvGrpSpPr/>
          <p:nvPr/>
        </p:nvGrpSpPr>
        <p:grpSpPr>
          <a:xfrm>
            <a:off x="633240" y="254160"/>
            <a:ext cx="3186360" cy="399960"/>
            <a:chOff x="633240" y="254160"/>
            <a:chExt cx="3186360" cy="399960"/>
          </a:xfrm>
        </p:grpSpPr>
        <p:sp>
          <p:nvSpPr>
            <p:cNvPr id="171" name="圆角矩形"/>
            <p:cNvSpPr/>
            <p:nvPr/>
          </p:nvSpPr>
          <p:spPr>
            <a:xfrm>
              <a:off x="633240" y="254160"/>
              <a:ext cx="3186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国债期货机构化特征明显"/>
            <p:cNvSpPr/>
            <p:nvPr/>
          </p:nvSpPr>
          <p:spPr>
            <a:xfrm>
              <a:off x="647640" y="280440"/>
              <a:ext cx="3157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国债期货交易策略框架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939960" y="731880"/>
            <a:ext cx="687204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圆角矩形 3"/>
          <p:cNvGrpSpPr/>
          <p:nvPr/>
        </p:nvGrpSpPr>
        <p:grpSpPr>
          <a:xfrm>
            <a:off x="642960" y="254160"/>
            <a:ext cx="3779640" cy="399960"/>
            <a:chOff x="642960" y="254160"/>
            <a:chExt cx="3779640" cy="399960"/>
          </a:xfrm>
        </p:grpSpPr>
        <p:sp>
          <p:nvSpPr>
            <p:cNvPr id="175" name="圆角矩形"/>
            <p:cNvSpPr/>
            <p:nvPr/>
          </p:nvSpPr>
          <p:spPr>
            <a:xfrm>
              <a:off x="642960" y="254160"/>
              <a:ext cx="377964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银行保险是债券的最主要持有者"/>
            <p:cNvSpPr/>
            <p:nvPr/>
          </p:nvSpPr>
          <p:spPr>
            <a:xfrm>
              <a:off x="657360" y="280440"/>
              <a:ext cx="3750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交易类型客户可应用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345600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华文楷体"/>
              <a:buChar char="■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潜在客户群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券商自营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金专户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私募公司（量化、宏观对冲）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780000" y="836640"/>
            <a:ext cx="48193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圆角矩形 3"/>
          <p:cNvGrpSpPr/>
          <p:nvPr/>
        </p:nvGrpSpPr>
        <p:grpSpPr>
          <a:xfrm>
            <a:off x="633240" y="254160"/>
            <a:ext cx="2808360" cy="399960"/>
            <a:chOff x="633240" y="254160"/>
            <a:chExt cx="2808360" cy="399960"/>
          </a:xfrm>
        </p:grpSpPr>
        <p:sp>
          <p:nvSpPr>
            <p:cNvPr id="180" name="圆角矩形"/>
            <p:cNvSpPr/>
            <p:nvPr/>
          </p:nvSpPr>
          <p:spPr>
            <a:xfrm>
              <a:off x="633240" y="254160"/>
              <a:ext cx="2808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对市场的行情"/>
            <p:cNvSpPr/>
            <p:nvPr/>
          </p:nvSpPr>
          <p:spPr>
            <a:xfrm>
              <a:off x="647640" y="280440"/>
              <a:ext cx="2779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方向性交易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内容占位符 2" descr=""/>
          <p:cNvPicPr/>
          <p:nvPr/>
        </p:nvPicPr>
        <p:blipFill>
          <a:blip r:embed="rId1"/>
          <a:stretch/>
        </p:blipFill>
        <p:spPr>
          <a:xfrm>
            <a:off x="139680" y="768240"/>
            <a:ext cx="3414600" cy="5540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3297240" y="814320"/>
            <a:ext cx="58323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圆角矩形 3"/>
          <p:cNvGrpSpPr/>
          <p:nvPr/>
        </p:nvGrpSpPr>
        <p:grpSpPr>
          <a:xfrm>
            <a:off x="633240" y="254160"/>
            <a:ext cx="2808360" cy="399960"/>
            <a:chOff x="633240" y="254160"/>
            <a:chExt cx="2808360" cy="399960"/>
          </a:xfrm>
        </p:grpSpPr>
        <p:sp>
          <p:nvSpPr>
            <p:cNvPr id="185" name="圆角矩形"/>
            <p:cNvSpPr/>
            <p:nvPr/>
          </p:nvSpPr>
          <p:spPr>
            <a:xfrm>
              <a:off x="633240" y="254160"/>
              <a:ext cx="2808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对市场的行情"/>
            <p:cNvSpPr/>
            <p:nvPr/>
          </p:nvSpPr>
          <p:spPr>
            <a:xfrm>
              <a:off x="647640" y="280440"/>
              <a:ext cx="2779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投机交易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内容占位符 2"/>
          <p:cNvSpPr/>
          <p:nvPr/>
        </p:nvSpPr>
        <p:spPr>
          <a:xfrm>
            <a:off x="179280" y="836640"/>
            <a:ext cx="2546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交易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本面：经济增长指标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业增加值，通货膨胀类指标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策面：货币政策，财政政策（货币政策执行报告、央行例会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资金面：资金供求关系（关注银行间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回购利率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情绪、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技术面分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50000"/>
              </a:lnSpc>
              <a:spcBef>
                <a:spcPts val="7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6427800" cy="165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2725560" y="3141720"/>
            <a:ext cx="63295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圆角矩形 3"/>
          <p:cNvGrpSpPr/>
          <p:nvPr/>
        </p:nvGrpSpPr>
        <p:grpSpPr>
          <a:xfrm>
            <a:off x="633240" y="254160"/>
            <a:ext cx="2808360" cy="399960"/>
            <a:chOff x="633240" y="254160"/>
            <a:chExt cx="2808360" cy="399960"/>
          </a:xfrm>
        </p:grpSpPr>
        <p:sp>
          <p:nvSpPr>
            <p:cNvPr id="191" name="圆角矩形"/>
            <p:cNvSpPr/>
            <p:nvPr/>
          </p:nvSpPr>
          <p:spPr>
            <a:xfrm>
              <a:off x="633240" y="254160"/>
              <a:ext cx="2808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对市场的行情"/>
            <p:cNvSpPr/>
            <p:nvPr/>
          </p:nvSpPr>
          <p:spPr>
            <a:xfrm>
              <a:off x="647640" y="280440"/>
              <a:ext cx="2779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投机交易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224000" y="836640"/>
            <a:ext cx="696600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8840" y="428400"/>
            <a:ext cx="6286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者分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71400"/>
            <a:ext cx="8664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交易部位分：多头投机商     空头投机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交易量大小分：大部位持有者 小部位持有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分析方法分：   基本分析派   技术分析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交易方式分：部位交易者  日交易者 抢帽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投机与套利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区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交易方式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盈利来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承受风险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交易成本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参加期货交易目的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对待风险态度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持仓时间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投机在期货交易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承担金融风险，为套期保值者转移金融风险提供必要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平衡期货交易的供求，保持均衡价格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增加市场的流动性，为套期保值提供交易上的便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金融期货的投机策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金融期货多头投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多头投机是指投机者预计某种期货合约的期货价格将上涨，从而买进该期货合约，以期在市场价格上涨时通过对冲而获利的交易策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例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指数期货合约价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某投机者预计该期货合约的期货价格将上涨，故买进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该期货合约，价值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4 ×500 ×10=$15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指数期货合约价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7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卖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该期货合约，价值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7 ×500 ×10=$158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果：获利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$1585000 - $1520000 = $6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9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指数期货合约价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8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卖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该期货合约，价值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88 ×500 ×10=$144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果：亏损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$1440000 - $1520000 = -$8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3760" y="1230480"/>
            <a:ext cx="9144000" cy="37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672640" y="40644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7920" y="339840"/>
            <a:ext cx="68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38080" y="228600"/>
            <a:ext cx="685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661480" y="3952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647080" y="3808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0" y="2128680"/>
            <a:ext cx="9143640" cy="4728960"/>
            <a:chOff x="0" y="2128680"/>
            <a:chExt cx="9143640" cy="4728960"/>
          </a:xfrm>
        </p:grpSpPr>
        <p:grpSp>
          <p:nvGrpSpPr>
            <p:cNvPr id="106" name="Group 13"/>
            <p:cNvGrpSpPr/>
            <p:nvPr/>
          </p:nvGrpSpPr>
          <p:grpSpPr>
            <a:xfrm>
              <a:off x="0" y="2128680"/>
              <a:ext cx="9143280" cy="4728600"/>
              <a:chOff x="0" y="2128680"/>
              <a:chExt cx="9143280" cy="4728600"/>
            </a:xfrm>
          </p:grpSpPr>
          <p:sp>
            <p:nvSpPr>
              <p:cNvPr id="107" name="Rectangle 14"/>
              <p:cNvSpPr/>
              <p:nvPr/>
            </p:nvSpPr>
            <p:spPr>
              <a:xfrm>
                <a:off x="0" y="2128680"/>
                <a:ext cx="9141840" cy="4727160"/>
              </a:xfrm>
              <a:prstGeom prst="rect">
                <a:avLst/>
              </a:prstGeom>
              <a:solidFill>
                <a:srgbClr val="f0f0f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15"/>
              <p:cNvSpPr/>
              <p:nvPr/>
            </p:nvSpPr>
            <p:spPr>
              <a:xfrm>
                <a:off x="0" y="2128680"/>
                <a:ext cx="9141840" cy="4727160"/>
              </a:xfrm>
              <a:prstGeom prst="rect">
                <a:avLst/>
              </a:prstGeom>
              <a:solidFill>
                <a:srgbClr val="f0f0f0"/>
              </a:solidFill>
              <a:ln cap="rnd" w="0">
                <a:solidFill>
                  <a:srgbClr val="ffffff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6"/>
              <p:cNvSpPr/>
              <p:nvPr/>
            </p:nvSpPr>
            <p:spPr>
              <a:xfrm>
                <a:off x="0" y="2128680"/>
                <a:ext cx="9143280" cy="47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7"/>
              <p:cNvSpPr/>
              <p:nvPr/>
            </p:nvSpPr>
            <p:spPr>
              <a:xfrm>
                <a:off x="0" y="2128680"/>
                <a:ext cx="9141840" cy="4727160"/>
              </a:xfrm>
              <a:prstGeom prst="rect">
                <a:avLst/>
              </a:prstGeom>
              <a:solidFill>
                <a:srgbClr val="f0f0f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Rectangle 18"/>
            <p:cNvSpPr/>
            <p:nvPr/>
          </p:nvSpPr>
          <p:spPr>
            <a:xfrm>
              <a:off x="0" y="2128680"/>
              <a:ext cx="9143640" cy="4728960"/>
            </a:xfrm>
            <a:prstGeom prst="rect">
              <a:avLst/>
            </a:prstGeom>
            <a:noFill/>
            <a:ln cap="rnd" w="9360">
              <a:solidFill>
                <a:srgbClr val="96969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20"/>
          <p:cNvSpPr/>
          <p:nvPr/>
        </p:nvSpPr>
        <p:spPr>
          <a:xfrm>
            <a:off x="480960" y="1873080"/>
            <a:ext cx="2590920" cy="3906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480960" y="1873080"/>
            <a:ext cx="1800" cy="3128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480960" y="1873080"/>
            <a:ext cx="259092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3"/>
          <p:cNvSpPr/>
          <p:nvPr/>
        </p:nvSpPr>
        <p:spPr>
          <a:xfrm>
            <a:off x="3071880" y="1873080"/>
            <a:ext cx="1440" cy="3128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4"/>
          <p:cNvSpPr/>
          <p:nvPr/>
        </p:nvSpPr>
        <p:spPr>
          <a:xfrm>
            <a:off x="7872480" y="6472080"/>
            <a:ext cx="1066680" cy="311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672" h="196">
                <a:moveTo>
                  <a:pt x="78" y="0"/>
                </a:moveTo>
                <a:lnTo>
                  <a:pt x="62" y="2"/>
                </a:lnTo>
                <a:lnTo>
                  <a:pt x="48" y="6"/>
                </a:lnTo>
                <a:lnTo>
                  <a:pt x="34" y="13"/>
                </a:lnTo>
                <a:lnTo>
                  <a:pt x="23" y="23"/>
                </a:lnTo>
                <a:lnTo>
                  <a:pt x="13" y="34"/>
                </a:lnTo>
                <a:lnTo>
                  <a:pt x="6" y="48"/>
                </a:lnTo>
                <a:lnTo>
                  <a:pt x="2" y="62"/>
                </a:lnTo>
                <a:lnTo>
                  <a:pt x="0" y="78"/>
                </a:lnTo>
                <a:lnTo>
                  <a:pt x="0" y="118"/>
                </a:lnTo>
                <a:lnTo>
                  <a:pt x="2" y="134"/>
                </a:lnTo>
                <a:lnTo>
                  <a:pt x="6" y="148"/>
                </a:lnTo>
                <a:lnTo>
                  <a:pt x="13" y="162"/>
                </a:lnTo>
                <a:lnTo>
                  <a:pt x="23" y="173"/>
                </a:lnTo>
                <a:lnTo>
                  <a:pt x="34" y="183"/>
                </a:lnTo>
                <a:lnTo>
                  <a:pt x="48" y="190"/>
                </a:lnTo>
                <a:lnTo>
                  <a:pt x="62" y="194"/>
                </a:lnTo>
                <a:lnTo>
                  <a:pt x="78" y="196"/>
                </a:lnTo>
                <a:lnTo>
                  <a:pt x="594" y="196"/>
                </a:lnTo>
                <a:lnTo>
                  <a:pt x="610" y="194"/>
                </a:lnTo>
                <a:lnTo>
                  <a:pt x="624" y="190"/>
                </a:lnTo>
                <a:lnTo>
                  <a:pt x="638" y="183"/>
                </a:lnTo>
                <a:lnTo>
                  <a:pt x="649" y="173"/>
                </a:lnTo>
                <a:lnTo>
                  <a:pt x="659" y="162"/>
                </a:lnTo>
                <a:lnTo>
                  <a:pt x="666" y="148"/>
                </a:lnTo>
                <a:lnTo>
                  <a:pt x="670" y="134"/>
                </a:lnTo>
                <a:lnTo>
                  <a:pt x="672" y="118"/>
                </a:lnTo>
                <a:lnTo>
                  <a:pt x="672" y="78"/>
                </a:lnTo>
                <a:lnTo>
                  <a:pt x="670" y="62"/>
                </a:lnTo>
                <a:lnTo>
                  <a:pt x="666" y="48"/>
                </a:lnTo>
                <a:lnTo>
                  <a:pt x="659" y="34"/>
                </a:lnTo>
                <a:lnTo>
                  <a:pt x="649" y="23"/>
                </a:lnTo>
                <a:lnTo>
                  <a:pt x="638" y="13"/>
                </a:lnTo>
                <a:lnTo>
                  <a:pt x="624" y="6"/>
                </a:lnTo>
                <a:lnTo>
                  <a:pt x="610" y="2"/>
                </a:lnTo>
                <a:lnTo>
                  <a:pt x="594" y="0"/>
                </a:lnTo>
                <a:lnTo>
                  <a:pt x="78" y="0"/>
                </a:lnTo>
                <a:close/>
              </a:path>
            </a:pathLst>
          </a:custGeom>
          <a:solidFill>
            <a:srgbClr val="000066"/>
          </a:solidFill>
          <a:ln w="19080">
            <a:solidFill>
              <a:srgbClr val="fdb9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7948440" y="6472080"/>
            <a:ext cx="9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3147840" y="1484280"/>
            <a:ext cx="56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3300480" y="15508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4321080" y="156852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4"/>
          <p:cNvSpPr/>
          <p:nvPr/>
        </p:nvSpPr>
        <p:spPr>
          <a:xfrm flipV="1">
            <a:off x="1600200" y="3124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600200" y="4572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6"/>
          <p:cNvSpPr/>
          <p:nvPr/>
        </p:nvSpPr>
        <p:spPr>
          <a:xfrm flipV="1">
            <a:off x="2971800" y="3352320"/>
            <a:ext cx="22096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7"/>
          <p:cNvSpPr/>
          <p:nvPr/>
        </p:nvSpPr>
        <p:spPr>
          <a:xfrm>
            <a:off x="1600200" y="3962520"/>
            <a:ext cx="297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8"/>
          <p:cNvSpPr/>
          <p:nvPr/>
        </p:nvSpPr>
        <p:spPr>
          <a:xfrm>
            <a:off x="1600200" y="51055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9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0"/>
          <p:cNvSpPr/>
          <p:nvPr/>
        </p:nvSpPr>
        <p:spPr>
          <a:xfrm>
            <a:off x="4572000" y="3962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6815880" y="456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市场价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1189800" y="268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1189800" y="5583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>
            <a:off x="1600200" y="4572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>
            <a:off x="1600200" y="51055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>
            <a:off x="1600200" y="3962520"/>
            <a:ext cx="297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3735360" y="4952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买入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4497480" y="4572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卖出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202200" y="419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卖出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129708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57120" y="100008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含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空头投机是指投机者预计某种期货合约的期货价格将下跌，从而卖出该期货合约，以期在市场价格下跌时通过对冲而获利的交易策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例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，某投机者预计该期货合约的期货价格将下跌，故卖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加元期货合约，加元期货价格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加元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0.879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元，合约价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$0.8797×100,000×10=$897,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买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加元期货合约，加元期货价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加元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0.873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元，合约价值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$0.8739 ×100,000 ×10=$873,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获利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$897,700-$873,900=$5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二）金融期货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空头投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76040" y="236520"/>
            <a:ext cx="7012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672640" y="40644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77920" y="339840"/>
            <a:ext cx="68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2360" y="314280"/>
            <a:ext cx="68598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661480" y="3952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647080" y="3808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7948440" y="6472080"/>
            <a:ext cx="9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3147840" y="1484280"/>
            <a:ext cx="56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3300480" y="15508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685800" y="2666880"/>
            <a:ext cx="8458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 flipV="1">
            <a:off x="2362320" y="2743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2362320" y="4267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8"/>
          <p:cNvSpPr/>
          <p:nvPr/>
        </p:nvSpPr>
        <p:spPr>
          <a:xfrm flipV="1">
            <a:off x="2362320" y="2743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362320" y="4267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3505320" y="2895480"/>
            <a:ext cx="190476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2362320" y="3657600"/>
            <a:ext cx="1676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2362320" y="4876920"/>
            <a:ext cx="2590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3"/>
          <p:cNvSpPr/>
          <p:nvPr/>
        </p:nvSpPr>
        <p:spPr>
          <a:xfrm>
            <a:off x="4038480" y="36576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4952880" y="42670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181476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1951920" y="245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1875600" y="565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8"/>
          <p:cNvSpPr/>
          <p:nvPr/>
        </p:nvSpPr>
        <p:spPr>
          <a:xfrm>
            <a:off x="3659400" y="419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买入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9"/>
          <p:cNvSpPr/>
          <p:nvPr/>
        </p:nvSpPr>
        <p:spPr>
          <a:xfrm>
            <a:off x="4268880" y="3657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卖出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0"/>
          <p:cNvSpPr/>
          <p:nvPr/>
        </p:nvSpPr>
        <p:spPr>
          <a:xfrm>
            <a:off x="7044480" y="4264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市场价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7"/>
          <p:cNvSpPr/>
          <p:nvPr/>
        </p:nvSpPr>
        <p:spPr>
          <a:xfrm>
            <a:off x="2303640" y="2133720"/>
            <a:ext cx="5221080" cy="107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218b"/>
                </a:solidFill>
                <a:latin typeface="华文楷体"/>
                <a:ea typeface="华文楷体"/>
              </a:rPr>
              <a:t>国债期货交易策略及案例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2:00:03Z</dcterms:created>
  <dc:creator>陈泽滨</dc:creator>
  <dc:description/>
  <dc:language>en-US</dc:language>
  <cp:lastModifiedBy>Yitan Wang</cp:lastModifiedBy>
  <dcterms:modified xsi:type="dcterms:W3CDTF">2024-04-08T01:08:12Z</dcterms:modified>
  <cp:revision>52</cp:revision>
  <dc:subject/>
  <dc:title>PowerPoint 演示文稿</dc:title>
</cp:coreProperties>
</file>